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6470-B6E5-43C9-897A-07E06F4B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E2F4-FEAB-4C80-B5CA-4643638C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03CD-82DA-487C-9DE8-80BF74BB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FD52-D3BC-49F7-B7A8-D1FE75BE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C899-8F7A-4CA7-BB2E-AE2BF83D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A594-B660-459E-AE52-EDD96E8A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C028-84E8-48F8-AB7D-C77AFF23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5662-79E6-4CB3-928A-7E0AF7B2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5A20-9996-4C2D-AC03-36B6BC29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4C2D-47A6-4DAE-B828-D5F819A7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FB7A-F9B0-4259-AD54-A2A0B5C2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BF07-CEA2-4124-A70F-1CA70CF0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D90F-2945-4FA8-A38C-CA1F380E6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Com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rica Grasbe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 el desayuno me gusta com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240" y="342900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panque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2362320" cy="1592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324480" y="4724280"/>
            <a:ext cx="2667240" cy="2000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72200" y="388620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38098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4038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toc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848720" y="1752480"/>
            <a:ext cx="2057400" cy="1932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391520" y="106668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go de na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352680" y="2590920"/>
            <a:ext cx="2610000" cy="1957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76720" y="16002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huevos y pan to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 la merienda me gusta com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verduras y la fr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2685960" cy="1704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029200" y="2895480"/>
            <a:ext cx="312408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 el almuerzo me gusta com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00200" y="4647960"/>
            <a:ext cx="2209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hamburgu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47242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as fri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160020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naran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1676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gal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45720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ensal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1371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le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 la merienda me gusta com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480" y="3276720"/>
            <a:ext cx="2743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3962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pretz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 la cena me gusta com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80720" y="4038120"/>
            <a:ext cx="342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qu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019920" y="5029200"/>
            <a:ext cx="2361960" cy="1609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791320" y="2514600"/>
            <a:ext cx="2205000" cy="1763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447920" y="16765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828800" y="1295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tan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1905120"/>
            <a:ext cx="2362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1981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a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45720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4114800" y="2743200"/>
            <a:ext cx="1143000" cy="1461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038480" y="2209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 el postre me gusta com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629400" y="2133720"/>
            <a:ext cx="2362320" cy="1535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066680" y="26668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22096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19810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he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4800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gal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1447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pas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962520" y="1905120"/>
            <a:ext cx="1447560" cy="1114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038480" y="1295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08:55Z</dcterms:created>
  <dc:creator>grasbergereri</dc:creator>
  <dc:description/>
  <dc:language>en-US</dc:language>
  <cp:lastModifiedBy>grasbergereri</cp:lastModifiedBy>
  <dcterms:modified xsi:type="dcterms:W3CDTF">2012-04-05T17:20:58Z</dcterms:modified>
  <cp:revision>4</cp:revision>
  <dc:subject/>
  <dc:title>Slide 1</dc:title>
</cp:coreProperties>
</file>